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0B4-BD84-4172-9B6A-F8D8C2BB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0D4-423F-4BF2-A6C6-444D343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558-ABF4-4969-AED1-1AB4E889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19B-73D3-4F6F-8A01-EAFCFE1C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6FE-6BAB-469A-A389-C6317807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559-2D4A-465E-96D9-AF8460CA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FFA-637E-43F2-BC5F-43D14300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BA9-5BD4-4F5E-8BC4-630E9F7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FB0-F27A-496D-B171-AC2F4F6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21F-636E-43A9-B9AE-D5A68F0A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666-7AD5-4A23-9E1A-1388038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046-B308-45A3-94B1-0E40E36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44A-FA16-4B51-9FBE-A8F96404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on Cognition To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few minutes to review for your quiz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las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nconditioned Stimulus - U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C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Stimulus leads to a certain response without any previou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Food causes the dog to sal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ood is the U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3657600" cy="245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nconditioned Response - U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86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C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Automatic response to a stimulus,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og salivating is the UC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809880" cy="256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Neutral Stimulus - 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stimulus has nothing to do with the response prior to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el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190760" cy="254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1600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fore Cond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78168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7920" y="45720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ditioned Stimulus - 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Orig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stimulus, but after conditioning, leads to specific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el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267080" cy="276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ditioned Response - 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learned response to a conditioned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og salivates just from hearing the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724640" cy="30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3732120" cy="204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4680" y="4614840"/>
            <a:ext cx="3559320" cy="224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3200400" cy="189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4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29200" y="1219320"/>
            <a:ext cx="3886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The NS becomes the CS.  The UCR becomes the C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incipl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How often the UCS and NS are paired with the U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iming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Time between pairing the CS and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y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your chart and notes to 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mory Workshee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rom last class using pages 56-64 in your boo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W # 12 Questio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pages 23-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Identify what UCS, UCR, CS, and CR mean and give an example of each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What is extinction and how does it relate to spontaneous recover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How was classical conditioning used to solve bedwetting problem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Complete this warm-up on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sheet of paper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first television commercial that comes to mind right now?  Why do you remember i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y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your chart and notes to 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artn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ake out all of your baby mater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end one partner to pick up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astic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Piece of 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Paper on th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ut all baby materials in the bag and label your bag with your na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Using the paper from the overhead, decide the UCS, UCR, NS, CS, CR for each scenario with your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ut your answers on a separate sheet of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One answer sheet for both people but put both names at the 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hen you are finished, see how many other conditioning scenarios you can write that have happened in your own lives.  Label the UCS, UCR, CS and C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ink, Pair, Share: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ing your warm-up, name the UCS, UCR, NS, CS, and CR in the commercial you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swer the following question on the back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in complete sentences):  </a:t>
            </a:r>
            <a:br>
              <a:rPr sz="2400"/>
            </a:b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ow is advertising a major influence on your actions, thoughts, and feeling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a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Discuss your commercial and get help from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ha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Explain your answers to the oth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ject: Classical Cond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mework/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tes: Learn about “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amples of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roduce uni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eorgia"/>
              </a:rPr>
              <a:t>Learn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Classical Condit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ing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hange in behavior resulting from experi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imul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anything causing some kind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ing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hange in behavior resulting from experi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imul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anything causing some kind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van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ical Conditionin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Person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ld response is attached to a new stimu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avlov noticed that the mere sight or smell of food was enough to make a dog sal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038480" cy="290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9:20:42Z</dcterms:created>
  <dc:creator>Deborah Strnad</dc:creator>
  <dc:description/>
  <dc:language>en-US</dc:language>
  <cp:lastModifiedBy>Deborah Strnad</cp:lastModifiedBy>
  <dcterms:modified xsi:type="dcterms:W3CDTF">2009-04-24T15:58:20Z</dcterms:modified>
  <cp:revision>182</cp:revision>
  <dc:subject/>
  <dc:title>Learning and Cognitive Processes</dc:title>
</cp:coreProperties>
</file>